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B939-6514-4D9E-9E75-E2906FA2BC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D271-FF2F-4595-83DA-336D9CC6F3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AF23-ADD8-4EEA-A824-AC5ECDE570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2F72-8020-458B-99C9-4699B24900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B6F7-2B97-45B5-BA99-FDBB927EDB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6ACE-F0EF-42D5-AFA2-4F55E8A44E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3C14-4469-4D38-BF4A-ED017433BD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4A8E-72D7-4E10-A3F7-290DCA2245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24DF-7788-4900-B29E-1991B9B173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B64D-18CA-4F75-8DBA-1279ED4430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8DF8-4BBE-4958-BDB7-ACD4FFA00F1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7080-DEB2-42EA-BEBA-3D1EAD01FB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E2DD-759B-41F0-8493-F1AAA1077E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A13D-1961-445F-8546-0EC4C36A40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D1AF-DC29-4E72-BA36-26D420A68E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824C-11E5-4C32-BD34-40CB768023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BDE8-4EA3-488D-AFF3-5D64749B25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BB3C-435C-4682-9BCD-3158E83157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F625-F76F-43E9-B4D3-3A9BBF2EC8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7213-F608-4426-B455-460F1896F9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D140-7548-4A7C-B1A9-DC939058DC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ackgroundskin.png"/>
          <p:cNvPicPr/>
          <p:nvPr/>
        </p:nvPicPr>
        <p:blipFill>
          <a:blip r:embed="rId2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9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alibri"/>
              </a:rPr>
              <a:t>www.gordondunsir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587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9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Calibri"/>
              </a:rPr>
              <a:t>Functional requirements for bibliographic linked data: the FR family and the Semantic Web</a:t>
            </a:r>
            <a:endParaRPr b="0" lang="en-US" sz="40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Gordon Dunsire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Presented to the ALCTS FRBR Interest Group, ALA Annual, 24 June 2011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7"/>
          <p:cNvSpPr/>
          <p:nvPr/>
        </p:nvSpPr>
        <p:spPr>
          <a:xfrm>
            <a:off x="250920" y="3429000"/>
            <a:ext cx="457200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4.4.12 Capture mo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pture mode is the means used to record notation, sound, or images in the production of a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manifestation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e.g., analogue, acoustic, electric, digital, optical etc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250920" y="115920"/>
            <a:ext cx="457200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3.2.5 Pers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ifth entity defined in the model i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erson: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individu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entity defined a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erson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compasses individuals that are deceased as well as those that are liv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2"/>
          <p:cNvSpPr/>
          <p:nvPr/>
        </p:nvSpPr>
        <p:spPr>
          <a:xfrm>
            <a:off x="5728320" y="115920"/>
            <a:ext cx="2611800" cy="64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Calibri"/>
              </a:rPr>
              <a:t>Entity =&gt;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3"/>
          <p:cNvSpPr/>
          <p:nvPr/>
        </p:nvSpPr>
        <p:spPr>
          <a:xfrm>
            <a:off x="6474240" y="836640"/>
            <a:ext cx="1118160" cy="64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Calibri"/>
              </a:rPr>
              <a:t>Lab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5"/>
          <p:cNvSpPr/>
          <p:nvPr/>
        </p:nvSpPr>
        <p:spPr>
          <a:xfrm>
            <a:off x="6097320" y="1557360"/>
            <a:ext cx="1872360" cy="64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Calibri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6"/>
          <p:cNvSpPr/>
          <p:nvPr/>
        </p:nvSpPr>
        <p:spPr>
          <a:xfrm>
            <a:off x="5988240" y="2276640"/>
            <a:ext cx="2091960" cy="64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Calibri"/>
              </a:rPr>
              <a:t>Scope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38"/>
          <p:cNvSpPr/>
          <p:nvPr/>
        </p:nvSpPr>
        <p:spPr>
          <a:xfrm>
            <a:off x="5149800" y="3429000"/>
            <a:ext cx="3768480" cy="64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Attribute =&gt; Prop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9"/>
          <p:cNvSpPr/>
          <p:nvPr/>
        </p:nvSpPr>
        <p:spPr>
          <a:xfrm>
            <a:off x="6474240" y="4149720"/>
            <a:ext cx="1118160" cy="64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Lab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40"/>
          <p:cNvSpPr/>
          <p:nvPr/>
        </p:nvSpPr>
        <p:spPr>
          <a:xfrm>
            <a:off x="6097320" y="4869000"/>
            <a:ext cx="1872360" cy="64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41"/>
          <p:cNvSpPr/>
          <p:nvPr/>
        </p:nvSpPr>
        <p:spPr>
          <a:xfrm>
            <a:off x="5988240" y="5589720"/>
            <a:ext cx="2091960" cy="64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Scope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43"/>
          <p:cNvCxnSpPr>
            <a:stCxn id="109" idx="3"/>
            <a:endCxn id="101" idx="1"/>
          </p:cNvCxnSpPr>
          <p:nvPr/>
        </p:nvCxnSpPr>
        <p:spPr>
          <a:xfrm>
            <a:off x="1979640" y="367920"/>
            <a:ext cx="4488480" cy="793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lg"/>
          </a:ln>
        </p:spPr>
      </p:cxnSp>
      <p:cxnSp>
        <p:nvCxnSpPr>
          <p:cNvPr id="110" name="Straight Arrow Connector 46"/>
          <p:cNvCxnSpPr>
            <a:stCxn id="111" idx="3"/>
            <a:endCxn id="102" idx="1"/>
          </p:cNvCxnSpPr>
          <p:nvPr/>
        </p:nvCxnSpPr>
        <p:spPr>
          <a:xfrm>
            <a:off x="4067280" y="1089000"/>
            <a:ext cx="2022840" cy="7912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lg"/>
          </a:ln>
        </p:spPr>
      </p:cxnSp>
      <p:sp>
        <p:nvSpPr>
          <p:cNvPr id="109" name="Rectangle 49"/>
          <p:cNvSpPr/>
          <p:nvPr/>
        </p:nvSpPr>
        <p:spPr>
          <a:xfrm>
            <a:off x="971640" y="189000"/>
            <a:ext cx="1008000" cy="3603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51"/>
          <p:cNvSpPr/>
          <p:nvPr/>
        </p:nvSpPr>
        <p:spPr>
          <a:xfrm>
            <a:off x="2411280" y="907920"/>
            <a:ext cx="1656000" cy="3603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3"/>
          <p:cNvSpPr/>
          <p:nvPr/>
        </p:nvSpPr>
        <p:spPr>
          <a:xfrm>
            <a:off x="324000" y="1700280"/>
            <a:ext cx="4392360" cy="100800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54"/>
          <p:cNvCxnSpPr>
            <a:stCxn id="112" idx="3"/>
            <a:endCxn id="103" idx="1"/>
          </p:cNvCxnSpPr>
          <p:nvPr/>
        </p:nvCxnSpPr>
        <p:spPr>
          <a:xfrm>
            <a:off x="4716000" y="2205000"/>
            <a:ext cx="1267560" cy="396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lg"/>
          </a:ln>
        </p:spPr>
      </p:cxnSp>
      <p:sp>
        <p:nvSpPr>
          <p:cNvPr id="114" name="Rectangle 57"/>
          <p:cNvSpPr/>
          <p:nvPr/>
        </p:nvSpPr>
        <p:spPr>
          <a:xfrm>
            <a:off x="1116000" y="3500280"/>
            <a:ext cx="1943280" cy="36036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Group 68"/>
          <p:cNvGrpSpPr/>
          <p:nvPr/>
        </p:nvGrpSpPr>
        <p:grpSpPr>
          <a:xfrm>
            <a:off x="324000" y="3860640"/>
            <a:ext cx="4392360" cy="1440000"/>
            <a:chOff x="324000" y="3860640"/>
            <a:chExt cx="4392360" cy="1440000"/>
          </a:xfrm>
        </p:grpSpPr>
        <p:sp>
          <p:nvSpPr>
            <p:cNvPr id="116" name="Rectangle 60"/>
            <p:cNvSpPr/>
            <p:nvPr/>
          </p:nvSpPr>
          <p:spPr>
            <a:xfrm>
              <a:off x="2412000" y="3860640"/>
              <a:ext cx="2304360" cy="360000"/>
            </a:xfrm>
            <a:prstGeom prst="rect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61"/>
            <p:cNvSpPr/>
            <p:nvPr/>
          </p:nvSpPr>
          <p:spPr>
            <a:xfrm>
              <a:off x="324000" y="4220640"/>
              <a:ext cx="4392360" cy="720000"/>
            </a:xfrm>
            <a:prstGeom prst="rect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62"/>
            <p:cNvSpPr/>
            <p:nvPr/>
          </p:nvSpPr>
          <p:spPr>
            <a:xfrm>
              <a:off x="324000" y="4940640"/>
              <a:ext cx="1800000" cy="360000"/>
            </a:xfrm>
            <a:prstGeom prst="rect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66"/>
            <p:cNvSpPr/>
            <p:nvPr/>
          </p:nvSpPr>
          <p:spPr>
            <a:xfrm>
              <a:off x="2448000" y="4148640"/>
              <a:ext cx="2232360" cy="14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67"/>
            <p:cNvSpPr/>
            <p:nvPr/>
          </p:nvSpPr>
          <p:spPr>
            <a:xfrm>
              <a:off x="360000" y="4868640"/>
              <a:ext cx="1728000" cy="14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72"/>
          <p:cNvGrpSpPr/>
          <p:nvPr/>
        </p:nvGrpSpPr>
        <p:grpSpPr>
          <a:xfrm>
            <a:off x="324000" y="4941720"/>
            <a:ext cx="4392360" cy="1079640"/>
            <a:chOff x="324000" y="4941720"/>
            <a:chExt cx="4392360" cy="1079640"/>
          </a:xfrm>
        </p:grpSpPr>
        <p:sp>
          <p:nvSpPr>
            <p:cNvPr id="122" name="Rectangle 63"/>
            <p:cNvSpPr/>
            <p:nvPr/>
          </p:nvSpPr>
          <p:spPr>
            <a:xfrm>
              <a:off x="2772360" y="4941720"/>
              <a:ext cx="1944000" cy="360000"/>
            </a:xfrm>
            <a:prstGeom prst="rect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64"/>
            <p:cNvSpPr/>
            <p:nvPr/>
          </p:nvSpPr>
          <p:spPr>
            <a:xfrm>
              <a:off x="324000" y="5301720"/>
              <a:ext cx="4392360" cy="359640"/>
            </a:xfrm>
            <a:prstGeom prst="rect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65"/>
            <p:cNvSpPr/>
            <p:nvPr/>
          </p:nvSpPr>
          <p:spPr>
            <a:xfrm>
              <a:off x="324000" y="5661360"/>
              <a:ext cx="504000" cy="360000"/>
            </a:xfrm>
            <a:prstGeom prst="rect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69"/>
            <p:cNvSpPr/>
            <p:nvPr/>
          </p:nvSpPr>
          <p:spPr>
            <a:xfrm>
              <a:off x="2808360" y="5229360"/>
              <a:ext cx="1872000" cy="14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Rectangle 70"/>
            <p:cNvSpPr/>
            <p:nvPr/>
          </p:nvSpPr>
          <p:spPr>
            <a:xfrm>
              <a:off x="360000" y="5589360"/>
              <a:ext cx="432000" cy="14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27" name="Straight Arrow Connector 30"/>
          <p:cNvCxnSpPr>
            <a:stCxn id="114" idx="3"/>
            <a:endCxn id="105" idx="1"/>
          </p:cNvCxnSpPr>
          <p:nvPr/>
        </p:nvCxnSpPr>
        <p:spPr>
          <a:xfrm>
            <a:off x="3058920" y="3681360"/>
            <a:ext cx="3408840" cy="79128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lg"/>
          </a:ln>
        </p:spPr>
      </p:cxnSp>
      <p:cxnSp>
        <p:nvCxnSpPr>
          <p:cNvPr id="128" name="Straight Arrow Connector 34"/>
          <p:cNvCxnSpPr>
            <a:stCxn id="117" idx="3"/>
            <a:endCxn id="106" idx="1"/>
          </p:cNvCxnSpPr>
          <p:nvPr/>
        </p:nvCxnSpPr>
        <p:spPr>
          <a:xfrm>
            <a:off x="4716000" y="4581360"/>
            <a:ext cx="1374120" cy="61200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lg"/>
          </a:ln>
        </p:spPr>
      </p:cxnSp>
      <p:cxnSp>
        <p:nvCxnSpPr>
          <p:cNvPr id="129" name="Straight Arrow Connector 45"/>
          <p:cNvCxnSpPr>
            <a:stCxn id="123" idx="3"/>
            <a:endCxn id="107" idx="1"/>
          </p:cNvCxnSpPr>
          <p:nvPr/>
        </p:nvCxnSpPr>
        <p:spPr>
          <a:xfrm>
            <a:off x="4716000" y="5481360"/>
            <a:ext cx="1267560" cy="43236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OMR1.png"/>
          <p:cNvPicPr/>
          <p:nvPr/>
        </p:nvPicPr>
        <p:blipFill>
          <a:blip r:embed="rId1"/>
          <a:stretch/>
        </p:blipFill>
        <p:spPr>
          <a:xfrm>
            <a:off x="503280" y="0"/>
            <a:ext cx="813744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Oval 2"/>
          <p:cNvSpPr/>
          <p:nvPr/>
        </p:nvSpPr>
        <p:spPr>
          <a:xfrm>
            <a:off x="2195640" y="2708280"/>
            <a:ext cx="143964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2195640" y="3284640"/>
            <a:ext cx="3240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5931720" y="270828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Verbalised lab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6701400" y="32846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U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584320" y="537372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URI for Manifes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2050920" y="4724280"/>
            <a:ext cx="3384720" cy="50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" name="Straight Arrow Connector 9"/>
          <p:cNvCxnSpPr>
            <a:stCxn id="131" idx="6"/>
            <a:endCxn id="133" idx="1"/>
          </p:cNvCxnSpPr>
          <p:nvPr/>
        </p:nvCxnSpPr>
        <p:spPr>
          <a:xfrm>
            <a:off x="3635280" y="2889000"/>
            <a:ext cx="2293200" cy="514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8" name="Straight Arrow Connector 13"/>
          <p:cNvCxnSpPr>
            <a:stCxn id="132" idx="6"/>
            <a:endCxn id="134" idx="1"/>
          </p:cNvCxnSpPr>
          <p:nvPr/>
        </p:nvCxnSpPr>
        <p:spPr>
          <a:xfrm>
            <a:off x="5435640" y="3499920"/>
            <a:ext cx="1262880" cy="16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9" name="Straight Arrow Connector 16"/>
          <p:cNvCxnSpPr>
            <a:stCxn id="136" idx="6"/>
            <a:endCxn id="135" idx="1"/>
          </p:cNvCxnSpPr>
          <p:nvPr/>
        </p:nvCxnSpPr>
        <p:spPr>
          <a:xfrm>
            <a:off x="5435280" y="4976640"/>
            <a:ext cx="144720" cy="627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0" name="Oval 22"/>
          <p:cNvSpPr/>
          <p:nvPr/>
        </p:nvSpPr>
        <p:spPr>
          <a:xfrm>
            <a:off x="7596360" y="6381720"/>
            <a:ext cx="1008000" cy="476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OMR2.png"/>
          <p:cNvPicPr/>
          <p:nvPr/>
        </p:nvPicPr>
        <p:blipFill>
          <a:blip r:embed="rId1"/>
          <a:stretch/>
        </p:blipFill>
        <p:spPr>
          <a:xfrm>
            <a:off x="395280" y="333360"/>
            <a:ext cx="8408880" cy="5232240"/>
          </a:xfrm>
          <a:prstGeom prst="rect">
            <a:avLst/>
          </a:prstGeom>
          <a:ln w="0">
            <a:noFill/>
          </a:ln>
        </p:spPr>
      </p:pic>
      <p:sp>
        <p:nvSpPr>
          <p:cNvPr id="142" name="Oval 2"/>
          <p:cNvSpPr/>
          <p:nvPr/>
        </p:nvSpPr>
        <p:spPr>
          <a:xfrm>
            <a:off x="1619280" y="4941720"/>
            <a:ext cx="302400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4520880" y="1484280"/>
            <a:ext cx="408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Spanish translation of lab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- URI remains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Straight Arrow Connector 4"/>
          <p:cNvCxnSpPr>
            <a:stCxn id="142" idx="6"/>
            <a:endCxn id="143" idx="2"/>
          </p:cNvCxnSpPr>
          <p:nvPr/>
        </p:nvCxnSpPr>
        <p:spPr>
          <a:xfrm flipV="1">
            <a:off x="4643280" y="2437920"/>
            <a:ext cx="1920240" cy="2720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Methodology (2)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99"/>
                </a:solidFill>
                <a:latin typeface="Calibri"/>
              </a:rPr>
              <a:t>Terminology of labels, definitions and scope notes based as closely as possible on source documentation</a:t>
            </a:r>
            <a:endParaRPr b="0" lang="en-US" sz="27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E.g. Property label = “has” + attribute name</a:t>
            </a:r>
            <a:endParaRPr b="0" lang="en-US" sz="24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99"/>
                </a:solidFill>
                <a:latin typeface="Calibri"/>
              </a:rPr>
              <a:t>Classes and properties declared for prior model(s) re-used in current model</a:t>
            </a:r>
            <a:endParaRPr b="0" lang="en-US" sz="27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E.g. FRAD re-uses URIs from FRBR namespace</a:t>
            </a:r>
            <a:endParaRPr b="0" lang="en-US" sz="2400" spc="-1" strike="noStrike">
              <a:solidFill>
                <a:srgbClr val="000099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E.g. FRBR Expression; FRBR has-key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99"/>
                </a:solidFill>
                <a:latin typeface="Calibri"/>
              </a:rPr>
              <a:t>No re-use of RDF resources from external community namespaces such as Dublin Core Terms</a:t>
            </a:r>
            <a:endParaRPr b="0" lang="en-US" sz="27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Equivalences likely to be established later</a:t>
            </a:r>
            <a:endParaRPr b="0" lang="en-US" sz="24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Methodology (3)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FR attribute properties have domain but no range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Required by the model for extensibility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E.g. FRBR has-key (domain = Work)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Relationship properties have domain and range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E.g. FRBR is-realized-through (domain = Work;  range = Expression)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General, non-technical issues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Consistency within documentation</a:t>
            </a:r>
            <a:endParaRPr b="0" lang="en-US" sz="3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Written for human consumption; evidence of variable phrasing to make it more readable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E.g. “prior”, “preceding”, “first”</a:t>
            </a:r>
            <a:endParaRPr b="0" lang="en-US" sz="22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Consistency of labels of RDF resources</a:t>
            </a:r>
            <a:endParaRPr b="0" lang="en-US" sz="3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E.g. “has a reproduction” (regular) vs “has reproduction” (irregular)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Documentation refers to sub-types of entity</a:t>
            </a:r>
            <a:endParaRPr b="0" lang="en-US" sz="3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E.g. “musical work”, “serial”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First pass: sub-type =&gt; sub-class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But wrong due to semantic overlap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Opaque URIs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http://iflastandards.info/ns/fr/frbr/frbrer/P1001</a:t>
            </a:r>
            <a:endParaRPr b="0" lang="en-US" sz="3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frbrer:P1001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 http://iflastandards.info/ns/fr/frbr/frbrer/</a:t>
            </a:r>
            <a:r>
              <a:rPr b="0" lang="en-GB" sz="2600" spc="-1" strike="noStrike">
                <a:solidFill>
                  <a:srgbClr val="ff0000"/>
                </a:solidFill>
                <a:latin typeface="Calibri"/>
              </a:rPr>
              <a:t>Work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IFLA operates in a multilingual environment</a:t>
            </a:r>
            <a:endParaRPr b="0" lang="en-US" sz="3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Anglophone bias avoided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Labels, etc. in English (@en), but no problem in accommodating translations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Allows subsequent changes to alternative and preferred labels without causing confusion</a:t>
            </a:r>
            <a:endParaRPr b="0" lang="en-US" sz="3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URI must not change!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Linking the FR models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Relationships between separate FR model classes and properties are declared with RDF equivalence and hierarchical properties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E.g. owl:sameAs, rdfs:subClassOf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E.g. FRAD class Corporate Body seems to be a sub-class of FRBR Corporate Body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Will inform the consolidated model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Which may also require additional classes and properties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RDA issues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DCMI RDA Task Group has declared parallel FRBR classes within RDA namespace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Could not wait for FRBR RDF resources to be approved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JSC to decide whether to substitute FRBR namespace resources, or declare equivalence</a:t>
            </a:r>
            <a:endParaRPr b="0" lang="en-US" sz="24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Conflict with FRBR in RDA implementation scenarios?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RDA Manifestation “embodies” Work and Expression; FRBR allows only Expression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Legacy catalogue records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Domain and range of FR (and RDA) properties inhibit use for creating triples from non-FRBRized catalogue records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Need separate URIs for each specific Work, Expression, Manifestation, and Item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Solution: equivalent properties with no domain or range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Need just a URI for the specific resource described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RDA has such unbounded properties 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Resource Description Framework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Representing Functional Requirements for the Semantic Web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Some issues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Legacy catalogue records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gordon@gordondunsire.com</a:t>
            </a:r>
            <a:endParaRPr b="0" lang="en-US" sz="30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FRBR Review Group</a:t>
            </a:r>
            <a:endParaRPr b="0" lang="en-US" sz="2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http://www.ifla.org/en/frbr-rg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Open Metadata Registry</a:t>
            </a:r>
            <a:endParaRPr b="0" lang="en-US" sz="2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http://metadataregistry.org/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Library Linked Data Incubator Group</a:t>
            </a:r>
            <a:endParaRPr b="0" lang="en-US" sz="2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http://www.w3c.org/2005/Incubator/lld/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Sponsors</a:t>
            </a:r>
            <a:endParaRPr b="0" lang="en-US" sz="3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ALA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Cataloging &amp; Classification Quarterly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MARCIVE, Inc.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546840" y="1197000"/>
            <a:ext cx="2044440" cy="1434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RB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es not c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uthorities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11560" y="333360"/>
            <a:ext cx="2044440" cy="1434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R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es not c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b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4943880" y="2133720"/>
            <a:ext cx="1529640" cy="70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RS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10"/>
          <p:cNvCxnSpPr>
            <a:stCxn id="52" idx="3"/>
            <a:endCxn id="53" idx="1"/>
          </p:cNvCxnSpPr>
          <p:nvPr/>
        </p:nvCxnSpPr>
        <p:spPr>
          <a:xfrm flipV="1">
            <a:off x="2598840" y="1054800"/>
            <a:ext cx="605520" cy="864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13"/>
          <p:cNvCxnSpPr>
            <a:stCxn id="52" idx="3"/>
            <a:endCxn id="54" idx="1"/>
          </p:cNvCxnSpPr>
          <p:nvPr/>
        </p:nvCxnSpPr>
        <p:spPr>
          <a:xfrm>
            <a:off x="2598840" y="1918800"/>
            <a:ext cx="2342160" cy="567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TextBox 27"/>
          <p:cNvSpPr/>
          <p:nvPr/>
        </p:nvSpPr>
        <p:spPr>
          <a:xfrm>
            <a:off x="6810840" y="1197000"/>
            <a:ext cx="1803960" cy="1434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solid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016280" y="299736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99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3679920" y="299736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5154840" y="299736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6"/>
          <p:cNvCxnSpPr>
            <a:stCxn id="58" idx="3"/>
            <a:endCxn id="59" idx="1"/>
          </p:cNvCxnSpPr>
          <p:nvPr/>
        </p:nvCxnSpPr>
        <p:spPr>
          <a:xfrm>
            <a:off x="2130480" y="3319560"/>
            <a:ext cx="1543680" cy="216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62" name="Straight Arrow Connector 19"/>
          <p:cNvCxnSpPr>
            <a:stCxn id="59" idx="3"/>
            <a:endCxn id="60" idx="1"/>
          </p:cNvCxnSpPr>
          <p:nvPr/>
        </p:nvCxnSpPr>
        <p:spPr>
          <a:xfrm>
            <a:off x="4794120" y="3319560"/>
            <a:ext cx="354960" cy="216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63" name="TextBox 28"/>
          <p:cNvSpPr/>
          <p:nvPr/>
        </p:nvSpPr>
        <p:spPr>
          <a:xfrm>
            <a:off x="7052400" y="299736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012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Straight Arrow Connector 29"/>
          <p:cNvCxnSpPr>
            <a:stCxn id="60" idx="3"/>
            <a:endCxn id="63" idx="1"/>
          </p:cNvCxnSpPr>
          <p:nvPr/>
        </p:nvCxnSpPr>
        <p:spPr>
          <a:xfrm>
            <a:off x="6269040" y="3319560"/>
            <a:ext cx="776880" cy="216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65" name="Straight Arrow Connector 32"/>
          <p:cNvCxnSpPr>
            <a:stCxn id="53" idx="3"/>
            <a:endCxn id="57" idx="1"/>
          </p:cNvCxnSpPr>
          <p:nvPr/>
        </p:nvCxnSpPr>
        <p:spPr>
          <a:xfrm>
            <a:off x="5263920" y="1055160"/>
            <a:ext cx="1540440" cy="864360"/>
          </a:xfrm>
          <a:prstGeom prst="straightConnector1">
            <a:avLst/>
          </a:prstGeom>
          <a:ln w="255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66" name="Straight Arrow Connector 35"/>
          <p:cNvCxnSpPr>
            <a:stCxn id="52" idx="3"/>
            <a:endCxn id="57" idx="1"/>
          </p:cNvCxnSpPr>
          <p:nvPr/>
        </p:nvCxnSpPr>
        <p:spPr>
          <a:xfrm>
            <a:off x="2598480" y="1918800"/>
            <a:ext cx="4205880" cy="2520"/>
          </a:xfrm>
          <a:prstGeom prst="straightConnector1">
            <a:avLst/>
          </a:prstGeom>
          <a:ln w="255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67" name="Straight Arrow Connector 38"/>
          <p:cNvCxnSpPr>
            <a:stCxn id="54" idx="3"/>
            <a:endCxn id="57" idx="1"/>
          </p:cNvCxnSpPr>
          <p:nvPr/>
        </p:nvCxnSpPr>
        <p:spPr>
          <a:xfrm flipV="1">
            <a:off x="6477120" y="1918440"/>
            <a:ext cx="327600" cy="567720"/>
          </a:xfrm>
          <a:prstGeom prst="straightConnector1">
            <a:avLst/>
          </a:prstGeom>
          <a:ln w="255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68" name="TextBox 42"/>
          <p:cNvSpPr/>
          <p:nvPr/>
        </p:nvSpPr>
        <p:spPr>
          <a:xfrm>
            <a:off x="265680" y="2924280"/>
            <a:ext cx="858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mantic Web versions recapitulate this sequ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Earlier models in use before later models publi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Later models re-use elements from earlier mod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Reflects semantic development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Provides learning curve for FRBR Review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RDA: resource description and access is based on FRBR and FRAD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Bibliographic metadata content guidelines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DCMI RDA Task Group asked to develop an RDF representation of RDA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Following the “London” meeting in April 2007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Stimulated creation of “FRBR namespaces project”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To develop RDF representation of FRBR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RDF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Resource Description Framework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Basis of the Semantic Web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Metadata expressed as “atomic” statements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A simple, single, irreducible statement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The creator of this work is R. Shankar</a:t>
            </a:r>
            <a:endParaRPr b="0" lang="en-US" sz="24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Constructed in 3 parts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“</a:t>
            </a: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Triple”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RDF triples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The creator of this work is R. Shankar</a:t>
            </a:r>
            <a:endParaRPr b="0" lang="en-US" sz="3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Subject of the statement = </a:t>
            </a:r>
            <a:r>
              <a:rPr b="0" i="1" lang="en-GB" sz="2600" spc="-1" strike="noStrike">
                <a:solidFill>
                  <a:srgbClr val="000099"/>
                </a:solidFill>
                <a:latin typeface="Calibri"/>
              </a:rPr>
              <a:t>Subject</a:t>
            </a: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: This work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Nature of the statement = </a:t>
            </a:r>
            <a:r>
              <a:rPr b="0" i="1" lang="en-GB" sz="2600" spc="-1" strike="noStrike">
                <a:solidFill>
                  <a:srgbClr val="000099"/>
                </a:solidFill>
                <a:latin typeface="Calibri"/>
              </a:rPr>
              <a:t>Predicate</a:t>
            </a: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: has creator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Value of the statement = </a:t>
            </a:r>
            <a:r>
              <a:rPr b="0" i="1" lang="en-GB" sz="2600" spc="-1" strike="noStrike">
                <a:solidFill>
                  <a:srgbClr val="000099"/>
                </a:solidFill>
                <a:latin typeface="Calibri"/>
              </a:rPr>
              <a:t>Object</a:t>
            </a: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: R. Shankar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This work – has creator – R. Shankar</a:t>
            </a:r>
            <a:endParaRPr b="0" lang="en-US" sz="3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99"/>
                </a:solidFill>
                <a:latin typeface="Calibri"/>
              </a:rPr>
              <a:t>subject – predicate – object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RDF </a:t>
            </a:r>
            <a:r>
              <a:rPr b="0" lang="en-GB" sz="3000" spc="-1" strike="noStrike" u="sng">
                <a:solidFill>
                  <a:srgbClr val="000099"/>
                </a:solidFill>
                <a:uFillTx/>
                <a:latin typeface="Calibri"/>
              </a:rPr>
              <a:t>requires</a:t>
            </a: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 the subject and predicate of a triple to have machine-readable identifiers</a:t>
            </a:r>
            <a:endParaRPr b="0" lang="en-US" sz="3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Uniform Resource Identifier (URI)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Object of triple can be a URI, or a literal string like a title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RDF properties and classes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A predicate is called a property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Properties link two things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A specific work with a specific creator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This work &lt;-&gt; R. Shankar</a:t>
            </a:r>
            <a:endParaRPr b="0" lang="en-US" sz="24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A generic type of thing is called a class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Works, Persons, Places, etc.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Properties can specify which class the subject and object of a triple should belong to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Subject “domain”; object “range”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Methodology (1)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99"/>
                </a:solidFill>
                <a:latin typeface="Calibri"/>
              </a:rPr>
              <a:t>Open Metadata Registry used for basic representation in RDF</a:t>
            </a:r>
            <a:endParaRPr b="0" lang="en-US" sz="27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Same approach as RDA</a:t>
            </a:r>
            <a:endParaRPr b="0" lang="en-US" sz="24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Provides URI assignment; labels, definition, scope note, property range and domain</a:t>
            </a:r>
            <a:endParaRPr b="0" lang="en-US" sz="24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99"/>
                </a:solidFill>
                <a:latin typeface="Calibri"/>
              </a:rPr>
              <a:t>FR family are entity-relationship models</a:t>
            </a:r>
            <a:endParaRPr b="0" lang="en-US" sz="27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Entity =&gt; RDF Class</a:t>
            </a:r>
            <a:endParaRPr b="0" lang="en-US" sz="2400" spc="-1" strike="noStrike">
              <a:solidFill>
                <a:srgbClr val="000099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E.g. FRBR Work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Entity attribute =&gt; RDF property</a:t>
            </a:r>
            <a:endParaRPr b="0" lang="en-US" sz="2400" spc="-1" strike="noStrike">
              <a:solidFill>
                <a:srgbClr val="000099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E.g. FRBR has-intended-audience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Entity-entity relationship =&gt; RDF property</a:t>
            </a:r>
            <a:endParaRPr b="0" lang="en-US" sz="2400" spc="-1" strike="noStrike">
              <a:solidFill>
                <a:srgbClr val="000099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E.g. FRBR is-realized-through (Work-Expression)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20120" cy="4667400"/>
          </a:xfrm>
          <a:prstGeom prst="rect">
            <a:avLst/>
          </a:prstGeom>
          <a:ln w="0">
            <a:noFill/>
          </a:ln>
        </p:spPr>
      </p:pic>
      <p:sp>
        <p:nvSpPr>
          <p:cNvPr id="80" name="Oval 4"/>
          <p:cNvSpPr/>
          <p:nvPr/>
        </p:nvSpPr>
        <p:spPr>
          <a:xfrm>
            <a:off x="2268360" y="1268280"/>
            <a:ext cx="863640" cy="36036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5"/>
          <p:cNvSpPr/>
          <p:nvPr/>
        </p:nvSpPr>
        <p:spPr>
          <a:xfrm>
            <a:off x="3564000" y="2133720"/>
            <a:ext cx="1008000" cy="5032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6"/>
          <p:cNvSpPr/>
          <p:nvPr/>
        </p:nvSpPr>
        <p:spPr>
          <a:xfrm>
            <a:off x="4859280" y="3068640"/>
            <a:ext cx="1297080" cy="5047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7"/>
          <p:cNvSpPr/>
          <p:nvPr/>
        </p:nvSpPr>
        <p:spPr>
          <a:xfrm>
            <a:off x="6516720" y="4076640"/>
            <a:ext cx="863640" cy="36036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5733720" y="981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b050"/>
                </a:solidFill>
                <a:latin typeface="Calibri"/>
              </a:rPr>
              <a:t>Clas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Straight Arrow Connector 10"/>
          <p:cNvCxnSpPr>
            <a:stCxn id="80" idx="6"/>
            <a:endCxn id="84" idx="1"/>
          </p:cNvCxnSpPr>
          <p:nvPr/>
        </p:nvCxnSpPr>
        <p:spPr>
          <a:xfrm flipV="1">
            <a:off x="3131640" y="1302840"/>
            <a:ext cx="2592720" cy="1468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lg"/>
          </a:ln>
        </p:spPr>
      </p:cxnSp>
      <p:cxnSp>
        <p:nvCxnSpPr>
          <p:cNvPr id="86" name="Straight Arrow Connector 13"/>
          <p:cNvCxnSpPr>
            <a:stCxn id="81" idx="7"/>
            <a:endCxn id="84" idx="1"/>
          </p:cNvCxnSpPr>
          <p:nvPr/>
        </p:nvCxnSpPr>
        <p:spPr>
          <a:xfrm flipV="1">
            <a:off x="4423320" y="1302840"/>
            <a:ext cx="1300680" cy="9043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lg"/>
          </a:ln>
        </p:spPr>
      </p:cxnSp>
      <p:cxnSp>
        <p:nvCxnSpPr>
          <p:cNvPr id="87" name="Straight Arrow Connector 16"/>
          <p:cNvCxnSpPr>
            <a:stCxn id="82" idx="0"/>
            <a:endCxn id="84" idx="2"/>
          </p:cNvCxnSpPr>
          <p:nvPr/>
        </p:nvCxnSpPr>
        <p:spPr>
          <a:xfrm flipV="1">
            <a:off x="5507640" y="1626840"/>
            <a:ext cx="981720" cy="14421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lg"/>
          </a:ln>
        </p:spPr>
      </p:cxnSp>
      <p:cxnSp>
        <p:nvCxnSpPr>
          <p:cNvPr id="88" name="Straight Arrow Connector 21"/>
          <p:cNvCxnSpPr>
            <a:stCxn id="83" idx="0"/>
            <a:endCxn id="84" idx="2"/>
          </p:cNvCxnSpPr>
          <p:nvPr/>
        </p:nvCxnSpPr>
        <p:spPr>
          <a:xfrm flipH="1" flipV="1">
            <a:off x="6489360" y="1627200"/>
            <a:ext cx="459360" cy="24498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lg"/>
          </a:ln>
        </p:spPr>
      </p:cxnSp>
      <p:sp>
        <p:nvSpPr>
          <p:cNvPr id="89" name="TextBox 24"/>
          <p:cNvSpPr/>
          <p:nvPr/>
        </p:nvSpPr>
        <p:spPr>
          <a:xfrm>
            <a:off x="907560" y="3789360"/>
            <a:ext cx="210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Proper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25"/>
          <p:cNvSpPr/>
          <p:nvPr/>
        </p:nvSpPr>
        <p:spPr>
          <a:xfrm>
            <a:off x="1619280" y="1989000"/>
            <a:ext cx="1584360" cy="3603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26"/>
          <p:cNvSpPr/>
          <p:nvPr/>
        </p:nvSpPr>
        <p:spPr>
          <a:xfrm>
            <a:off x="3059280" y="2924280"/>
            <a:ext cx="1368360" cy="3603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27"/>
          <p:cNvSpPr/>
          <p:nvPr/>
        </p:nvSpPr>
        <p:spPr>
          <a:xfrm>
            <a:off x="4500720" y="3860640"/>
            <a:ext cx="1366560" cy="3603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Straight Arrow Connector 28"/>
          <p:cNvCxnSpPr>
            <a:stCxn id="90" idx="4"/>
            <a:endCxn id="89" idx="0"/>
          </p:cNvCxnSpPr>
          <p:nvPr/>
        </p:nvCxnSpPr>
        <p:spPr>
          <a:xfrm flipH="1">
            <a:off x="1960200" y="2349360"/>
            <a:ext cx="451440" cy="144036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lg"/>
          </a:ln>
        </p:spPr>
      </p:cxnSp>
      <p:cxnSp>
        <p:nvCxnSpPr>
          <p:cNvPr id="94" name="Straight Arrow Connector 31"/>
          <p:cNvCxnSpPr>
            <a:stCxn id="91" idx="4"/>
            <a:endCxn id="89" idx="0"/>
          </p:cNvCxnSpPr>
          <p:nvPr/>
        </p:nvCxnSpPr>
        <p:spPr>
          <a:xfrm flipH="1">
            <a:off x="1960200" y="3284640"/>
            <a:ext cx="1783440" cy="50544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lg"/>
          </a:ln>
        </p:spPr>
      </p:cxnSp>
      <p:cxnSp>
        <p:nvCxnSpPr>
          <p:cNvPr id="95" name="Straight Arrow Connector 34"/>
          <p:cNvCxnSpPr>
            <a:stCxn id="92" idx="2"/>
            <a:endCxn id="89" idx="3"/>
          </p:cNvCxnSpPr>
          <p:nvPr/>
        </p:nvCxnSpPr>
        <p:spPr>
          <a:xfrm flipH="1">
            <a:off x="3020760" y="4041720"/>
            <a:ext cx="1480320" cy="7020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lg"/>
          </a:ln>
        </p:spPr>
      </p:cxnSp>
      <p:sp>
        <p:nvSpPr>
          <p:cNvPr id="96" name="TextBox 38"/>
          <p:cNvSpPr/>
          <p:nvPr/>
        </p:nvSpPr>
        <p:spPr>
          <a:xfrm>
            <a:off x="216720" y="5229360"/>
            <a:ext cx="8538480" cy="5205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BR Groups are not (super-)classes [FRBR Review Group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9"/>
          <p:cNvSpPr/>
          <p:nvPr/>
        </p:nvSpPr>
        <p:spPr>
          <a:xfrm>
            <a:off x="755640" y="5950080"/>
            <a:ext cx="7461000" cy="520560"/>
          </a:xfrm>
          <a:prstGeom prst="rect">
            <a:avLst/>
          </a:prstGeom>
          <a:solidFill>
            <a:srgbClr val="d99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1 entities are not classes [some ontologists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8T16:46:31Z</dcterms:created>
  <dc:creator>Dunsire</dc:creator>
  <dc:description/>
  <dc:language>en-US</dc:language>
  <cp:lastModifiedBy>Dunsire</cp:lastModifiedBy>
  <dcterms:modified xsi:type="dcterms:W3CDTF">2011-06-30T16:29:33Z</dcterms:modified>
  <cp:revision>14</cp:revision>
  <dc:subject/>
  <dc:title>Functional requirements for bibliographic linked data: the FR family and the Semantic Web</dc:title>
</cp:coreProperties>
</file>